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8D23E-5237-4F0A-A645-E53C14ED8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A7D85-E5C9-457F-AB18-C1CEA8AEB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C4F3F-C7FB-4EE4-97A5-676C5174D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1F2DC-9CC4-4BAD-9D4A-7DDDAF0C3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55AF8-63F7-4849-BA6C-844EA459F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33B1E-22DC-4D00-9949-9088E25CC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0A4E4-FE64-40B1-8EAE-9A32F50E8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23044-C490-4EDA-9626-175932D5F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C27B2-4D17-4B03-ADF3-E0B00E4DB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C522F-66CA-43CA-AD0D-E7D310367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2B9A9-D3D3-4F07-B05B-DA366AA7F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66EB9-C94B-4769-94AB-DA11F2405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286CE-EC4E-4291-A62B-E1A6D5F8E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586BA-B77D-4919-A614-AE1AD1B86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591E9-054C-47B3-AE92-D89FC6DA4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D354A-40CF-48CD-928C-7374935A7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E9265-F322-4513-8EDB-7B54C166C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3D9871-1C0C-407A-AB05-B0C9F9A22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D238FE-F026-4755-92DD-D1C4E5CAC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7AC1C7-5DDC-489F-8098-7742579AF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AB2923-6E64-4A41-9B75-AB737EA26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EB5776-CD07-402E-944B-CC98412A0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B802A-3400-4E64-B997-A8E5C6E81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71C8A0-8CC3-4F9A-8D51-009EB626F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A9A705-48B0-45FB-984F-B07CBE619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801069-9CBE-4F88-98D1-B95064F47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8301EA-233A-4203-863C-C25009BB3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796EC3-888D-46A5-9261-C6FF3BBE7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112D44-3CEA-4B51-85CC-27CC0CFF7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F87F09-205C-4BFC-A358-103FBBB25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A1131D-7F6C-441B-9142-38ED24476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87DE41-4AB4-4939-AF5F-C6AC678DB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99C033-64AA-4694-A9E4-FB21EC927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62831-4AE5-4F86-9621-4CDFBC2E1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2BC5A1-4D0B-4C86-AD4E-0171B9441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47A7D4-3583-436C-94B4-43C7C1467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835303-C975-469C-9CE0-FC48981DA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453305-F762-4214-A221-4D17981E4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643AAA-E8A8-4167-9A35-4E82C6A26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AC7540-72FD-4E77-97FA-D28B20F10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99EB64-F534-45AF-82AF-0E4AEF07D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586DF7-E278-4550-BF22-48D67BFBF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ED4B34-FBDF-4356-999B-CDFFE30FD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0A01ED-6DC1-43EA-863F-E1B87AAB6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F85DA-8F7E-4301-8EEB-33CF1D166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B6F42C-D62C-4F43-9CA1-FF6F3606F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EB706B-B337-4AE1-8FDC-D59FE5FD3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64F017-0C96-4DE5-974F-26C9170AB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C726D8-149A-40B0-9C3C-C0C93737C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4504E7-44B3-4C82-8582-F834B4DB3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FA73E0-3839-4B6A-A008-8D7D3DE60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1C9ECC-71A6-4208-9D54-F36E3A301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FC4099-B188-43C1-BF27-99614244E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C5A81D-C470-4420-8CBD-6C7A9DD61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4FBDF2-B52D-4170-A5BC-1D0ED1A46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E0E69-ED11-4572-88E4-387FF8FA4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F57AB1-7CA0-43C4-ABE1-429FF6591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0AA197-0C02-411F-9C24-3DFED56A5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7995A2-0135-4A27-962F-12CAAD1A7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DDBA36-A360-42FA-B273-CCDFBD346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12FE88-9C8B-4026-B136-848F7B42E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6B5090-C716-412D-9537-1A758ED1A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2AA495-9DA4-4DF1-91E9-0F0633A39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39FBC0-811B-4EE4-9B97-3DCD68185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69EAA9-9C76-4469-A0BE-AACD1D146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076C02-508D-4133-B6CE-A5E1D215B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22A99-258E-4714-B974-5569DA7D4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020439-61C6-4EB4-8D42-7CA0A7DDD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0AFAFE-A8D6-43FD-9411-BBB9E1631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948DD6-8538-4073-A228-EBCAF4EC8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4BA0EA-CC33-412D-9118-7143B473F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FD32BA-4DD3-4F7B-845C-F53839971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81E4EF-0A58-4727-9491-D48FF4532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A4B3CD-BB35-486D-95C8-F67CC894B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75AC5A-C7B2-425D-8DCF-4944DA27A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0590CC-BC63-4A3C-B8F5-D079FE844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BC6ABA-6126-4E77-965F-7E0B94B57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3F0B6-359E-46DE-BBE5-65CFEBD78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F9B237-230B-46E9-9E0A-C6AD297D9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D0A8FA-C87E-4628-A17B-86D24110D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31AD07-A30B-4E5E-B1F6-5AF3AFB9B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1EDFDB-D05E-43DB-BC2B-75689FE3A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F11034-477F-4FDB-B694-EF8AE7893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A0747-11AF-4238-8D00-4D4A269ED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887" h="1638887">
                <a:moveTo>
                  <a:pt x="1638887" y="819444"/>
                </a:moveTo>
                <a:cubicBezTo>
                  <a:pt x="1638887" y="1036862"/>
                  <a:pt x="1552484" y="1245367"/>
                  <a:pt x="1398699" y="1399057"/>
                </a:cubicBezTo>
                <a:cubicBezTo>
                  <a:pt x="1244914" y="1552747"/>
                  <a:pt x="1036356" y="1639022"/>
                  <a:pt x="818938" y="1638888"/>
                </a:cubicBezTo>
                <a:cubicBezTo>
                  <a:pt x="819107" y="1365740"/>
                  <a:pt x="819275" y="1092592"/>
                  <a:pt x="819444" y="819444"/>
                </a:cubicBezTo>
                <a:lnTo>
                  <a:pt x="1638887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1FF5F-E92F-41DA-9AD6-DD5977B7CC1A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887" h="1638887">
                <a:moveTo>
                  <a:pt x="1638887" y="819444"/>
                </a:moveTo>
                <a:cubicBezTo>
                  <a:pt x="1638887" y="1036862"/>
                  <a:pt x="1552484" y="1245367"/>
                  <a:pt x="1398699" y="1399057"/>
                </a:cubicBezTo>
                <a:cubicBezTo>
                  <a:pt x="1244914" y="1552747"/>
                  <a:pt x="1036356" y="1639022"/>
                  <a:pt x="818938" y="1638888"/>
                </a:cubicBezTo>
                <a:cubicBezTo>
                  <a:pt x="819107" y="1365740"/>
                  <a:pt x="819275" y="1092592"/>
                  <a:pt x="819444" y="819444"/>
                </a:cubicBezTo>
                <a:lnTo>
                  <a:pt x="1638887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A33C1-64F1-411F-AEB7-573A2DEC587A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E0091-1BDD-4062-86FC-6AE4443B6E94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ACC34-611B-4AA2-87E1-A463F8446C20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5CC1E-1D6D-447C-9E8E-517D4044C9C5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AE9EA-622A-47D3-9122-582C8A7ED7FD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F5100-2D01-4DE8-B657-10C4968EBF8D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214280" y="2642760"/>
            <a:ext cx="740736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72314"/>
                </a:solidFill>
                <a:latin typeface="Corbel"/>
              </a:rPr>
              <a:t>Реферативно-исследовательская работа по математике </a:t>
            </a:r>
            <a:br>
              <a:rPr sz="2800"/>
            </a:br>
            <a:r>
              <a:rPr b="0" lang="ru-RU" sz="2800" spc="-1" strike="noStrike">
                <a:solidFill>
                  <a:srgbClr val="572314"/>
                </a:solidFill>
                <a:latin typeface="Corbel"/>
              </a:rPr>
              <a:t>Метод Дайсона выявления фальшивой монеты</a:t>
            </a:r>
            <a:br>
              <a:rPr sz="4000"/>
            </a:b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3214800" y="4857840"/>
            <a:ext cx="5929200" cy="20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marL="2700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20e04"/>
                </a:solidFill>
                <a:latin typeface="Corbel"/>
              </a:rPr>
              <a:t>Выполнил Щекотько Михаил, ученик 10 «В» класса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2700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20e04"/>
                </a:solidFill>
                <a:latin typeface="Corbel"/>
              </a:rPr>
              <a:t>Учитель математики  Токмакова О.А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2700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20e04"/>
                </a:solidFill>
                <a:latin typeface="Corbel"/>
              </a:rPr>
              <a:t>Научный руководитель Тропина Н.В.,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2700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20e04"/>
                </a:solidFill>
                <a:latin typeface="Corbel"/>
              </a:rPr>
              <a:t>к.п.н. , доцент кафедры математического анализа НГПУ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500"/>
                            </p:stCondLst>
                            <p:childTnLst>
                              <p:par>
                                <p:cTn id="9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" dur="1000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1000"/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1000"/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" dur="1000"/>
                                        <p:tgtEl>
                                          <p:spTgt spid="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План работы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21" name="Содержимое 2" descr=""/>
          <p:cNvPicPr/>
          <p:nvPr/>
        </p:nvPicPr>
        <p:blipFill>
          <a:blip r:embed="rId1"/>
          <a:stretch/>
        </p:blipFill>
        <p:spPr>
          <a:xfrm>
            <a:off x="1414440" y="1352520"/>
            <a:ext cx="7521480" cy="48960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22" name="Объект 3"/>
              <p:cNvSpPr txBox="1"/>
              <p:nvPr/>
            </p:nvSpPr>
            <p:spPr>
              <a:xfrm>
                <a:off x="6232680" y="2351160"/>
                <a:ext cx="202068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&lt;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(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3" name="Object 5"/>
              <p:cNvSpPr txBox="1"/>
              <p:nvPr/>
            </p:nvSpPr>
            <p:spPr>
              <a:xfrm>
                <a:off x="6215040" y="1785960"/>
                <a:ext cx="202716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(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ru-RU" sz="3600" spc="-1" strike="noStrike">
                <a:solidFill>
                  <a:srgbClr val="572314"/>
                </a:solidFill>
                <a:latin typeface="Corbel"/>
              </a:rPr>
              <a:t>Рассмотрение метода Дайсона в общем виде</a:t>
            </a:r>
            <a:br>
              <a:rPr sz="4000"/>
            </a:b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1428480" y="1428480"/>
            <a:ext cx="7497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Gill Sans MT"/>
              </a:rPr>
              <a:t>m</a:t>
            </a:r>
            <a:r>
              <a:rPr b="0" i="1" lang="ru-RU" sz="2800" spc="-1" strike="noStrike">
                <a:solidFill>
                  <a:srgbClr val="000000"/>
                </a:solidFill>
                <a:latin typeface="Corbel"/>
              </a:rPr>
              <a:t> – число монет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Gill Sans MT"/>
              </a:rPr>
              <a:t>n </a:t>
            </a:r>
            <a:r>
              <a:rPr b="0" i="1" lang="ru-RU" sz="2800" spc="-1" strike="noStrike">
                <a:solidFill>
                  <a:srgbClr val="000000"/>
                </a:solidFill>
                <a:latin typeface="Corbel"/>
              </a:rPr>
              <a:t>  - число взвешиваний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orbel"/>
              </a:rPr>
              <a:t>Используется троичная система счисления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«Правые» маркеры – наборы цифр, где левая пара - пара неравных чисел (01, 12 или 20)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6" name="Управляющая кнопка: домой 9"/>
          <p:cNvSpPr/>
          <p:nvPr/>
        </p:nvSpPr>
        <p:spPr>
          <a:xfrm>
            <a:off x="0" y="5857920"/>
            <a:ext cx="1000080" cy="1000080"/>
          </a:xfrm>
          <a:custGeom>
            <a:avLst/>
            <a:gdLst>
              <a:gd name="textAreaLeft" fmla="*/ 64800 w 1000080"/>
              <a:gd name="textAreaRight" fmla="*/ 935280 w 1000080"/>
              <a:gd name="textAreaTop" fmla="*/ 64800 h 1000080"/>
              <a:gd name="textAreaBottom" fmla="*/ 935280 h 1000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7" name="Объект 4"/>
              <p:cNvSpPr txBox="1"/>
              <p:nvPr/>
            </p:nvSpPr>
            <p:spPr>
              <a:xfrm>
                <a:off x="2000160" y="3786120"/>
                <a:ext cx="241452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(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8" name="Объект 5"/>
              <p:cNvSpPr txBox="1"/>
              <p:nvPr/>
            </p:nvSpPr>
            <p:spPr>
              <a:xfrm>
                <a:off x="2071800" y="4429080"/>
                <a:ext cx="2289240" cy="5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&lt;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(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split dir="out" orient="vert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" dur="1000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" dur="1000"/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" dur="1000"/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" dur="1000"/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3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3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17440"/>
            <a:ext cx="768672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1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72314"/>
                </a:solidFill>
                <a:latin typeface="Corbel"/>
              </a:rPr>
              <a:t>АЛГОРИТМ РЕШЕНИЯ ДЛЯ СЛУЧАЯ</a:t>
            </a:r>
            <a:br>
              <a:rPr sz="4400"/>
            </a:b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071960" y="1499760"/>
            <a:ext cx="4857840" cy="53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280"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Множества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M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(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i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, 0),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M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(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i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, 1),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M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(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i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, 2)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42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44280">
              <a:lnSpc>
                <a:spcPct val="100000"/>
              </a:lnSpc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442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44280">
              <a:lnSpc>
                <a:spcPct val="100000"/>
              </a:lnSpc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Bookman Old Style"/>
              </a:rPr>
              <a:t>l</a:t>
            </a:r>
            <a:r>
              <a:rPr b="0" i="1" lang="en-US" sz="1800" spc="-1" strike="noStrike" baseline="-50000">
                <a:solidFill>
                  <a:srgbClr val="000000"/>
                </a:solidFill>
                <a:latin typeface="Bookman Old Style"/>
              </a:rPr>
              <a:t>i</a:t>
            </a:r>
            <a:r>
              <a:rPr b="0" i="1" lang="en-US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Bookman Old Style"/>
              </a:rPr>
              <a:t> -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цифра маркера после взвешивания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42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44280"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442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442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44280"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6 монета – фальшивая, тяжёлая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442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44280">
              <a:lnSpc>
                <a:spcPct val="100000"/>
              </a:lnSpc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M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(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1,0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),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M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1,2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42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44280">
              <a:lnSpc>
                <a:spcPct val="100000"/>
              </a:lnSpc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44280">
              <a:lnSpc>
                <a:spcPct val="100000"/>
              </a:lnSpc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M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(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0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),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M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2,2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4280">
              <a:lnSpc>
                <a:spcPct val="100000"/>
              </a:lnSpc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442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44280">
              <a:lnSpc>
                <a:spcPct val="100000"/>
              </a:lnSpc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M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(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3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0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),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M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3,2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4280">
              <a:lnSpc>
                <a:spcPct val="100000"/>
              </a:lnSpc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4428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4428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442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4428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4428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1" name="Содержимое 6" descr=""/>
          <p:cNvPicPr/>
          <p:nvPr/>
        </p:nvPicPr>
        <p:blipFill>
          <a:blip r:embed="rId1"/>
          <a:stretch/>
        </p:blipFill>
        <p:spPr>
          <a:xfrm>
            <a:off x="390600" y="1457280"/>
            <a:ext cx="3389400" cy="52246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32" name="Object 2"/>
              <p:cNvSpPr txBox="1"/>
              <p:nvPr/>
            </p:nvSpPr>
            <p:spPr>
              <a:xfrm>
                <a:off x="2857680" y="714240"/>
                <a:ext cx="265104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(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3" name="Объект 7"/>
              <p:cNvSpPr txBox="1"/>
              <p:nvPr/>
            </p:nvSpPr>
            <p:spPr>
              <a:xfrm>
                <a:off x="4357800" y="2786040"/>
                <a:ext cx="228600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bar>
                      <m:barPr>
                        <m:pos m:val="top"/>
                      </m:barPr>
                      <m:e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4" name="Объект 8"/>
              <p:cNvSpPr txBox="1"/>
              <p:nvPr/>
            </p:nvSpPr>
            <p:spPr>
              <a:xfrm>
                <a:off x="4357800" y="4429080"/>
                <a:ext cx="81756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5" name="Объект 9"/>
              <p:cNvSpPr txBox="1"/>
              <p:nvPr/>
            </p:nvSpPr>
            <p:spPr>
              <a:xfrm>
                <a:off x="4357800" y="5072040"/>
                <a:ext cx="785880" cy="55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6" name="Объект 10"/>
              <p:cNvSpPr txBox="1"/>
              <p:nvPr/>
            </p:nvSpPr>
            <p:spPr>
              <a:xfrm>
                <a:off x="4357800" y="5786280"/>
                <a:ext cx="75564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7" name="Управляющая кнопка: домой 13"/>
          <p:cNvSpPr/>
          <p:nvPr/>
        </p:nvSpPr>
        <p:spPr>
          <a:xfrm>
            <a:off x="8143920" y="5857920"/>
            <a:ext cx="1000080" cy="1000080"/>
          </a:xfrm>
          <a:custGeom>
            <a:avLst/>
            <a:gdLst>
              <a:gd name="textAreaLeft" fmla="*/ 64800 w 1000080"/>
              <a:gd name="textAreaRight" fmla="*/ 935280 w 1000080"/>
              <a:gd name="textAreaTop" fmla="*/ 64800 h 1000080"/>
              <a:gd name="textAreaBottom" fmla="*/ 935280 h 1000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8" name="Объект 12"/>
              <p:cNvSpPr txBox="1"/>
              <p:nvPr/>
            </p:nvSpPr>
            <p:spPr>
              <a:xfrm>
                <a:off x="4286160" y="1857240"/>
                <a:ext cx="236880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1,2,3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9" name="Объект 14"/>
              <p:cNvSpPr txBox="1"/>
              <p:nvPr/>
            </p:nvSpPr>
            <p:spPr>
              <a:xfrm>
                <a:off x="6000840" y="4000680"/>
                <a:ext cx="2847960" cy="46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↔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1,4,7,10</m:t>
                        </m:r>
                      </m:e>
                    </m:d>
                    <m:r>
                      <m:t xml:space="preserve">,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3,6,9,1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0" name="Объект 15"/>
              <p:cNvSpPr txBox="1"/>
              <p:nvPr/>
            </p:nvSpPr>
            <p:spPr>
              <a:xfrm>
                <a:off x="6858000" y="2786040"/>
                <a:ext cx="42876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1" name="Object 11"/>
              <p:cNvSpPr txBox="1"/>
              <p:nvPr/>
            </p:nvSpPr>
            <p:spPr>
              <a:xfrm>
                <a:off x="5916600" y="4714920"/>
                <a:ext cx="2873520" cy="46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↔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3,6,9,10</m:t>
                        </m:r>
                      </m:e>
                    </m:d>
                    <m:r>
                      <m:t xml:space="preserve">,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2,5,8,1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2" name="Объект 16"/>
              <p:cNvSpPr txBox="1"/>
              <p:nvPr/>
            </p:nvSpPr>
            <p:spPr>
              <a:xfrm>
                <a:off x="7072200" y="2786040"/>
                <a:ext cx="44928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3" name="Объект 17"/>
              <p:cNvSpPr txBox="1"/>
              <p:nvPr/>
            </p:nvSpPr>
            <p:spPr>
              <a:xfrm>
                <a:off x="6500880" y="2928960"/>
                <a:ext cx="420480" cy="33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4" name="Object 14"/>
              <p:cNvSpPr txBox="1"/>
              <p:nvPr/>
            </p:nvSpPr>
            <p:spPr>
              <a:xfrm>
                <a:off x="7286760" y="2786040"/>
                <a:ext cx="42840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5" name="Object 15"/>
              <p:cNvSpPr txBox="1"/>
              <p:nvPr/>
            </p:nvSpPr>
            <p:spPr>
              <a:xfrm>
                <a:off x="5786280" y="5429160"/>
                <a:ext cx="2873520" cy="46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↔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3,4,8,12</m:t>
                        </m:r>
                      </m:e>
                    </m:d>
                    <m:r>
                      <m:t xml:space="preserve">,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2,6,7,1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>
    <p:wheel spokes="1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500"/>
                                        <p:tgtEl>
                                          <p:spTgt spid="3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3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33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500"/>
                            </p:stCondLst>
                            <p:childTnLst>
                              <p:par>
                                <p:cTn id="1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500"/>
                                        <p:tgtEl>
                                          <p:spTgt spid="33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xit" presetID="1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slide(fromLeft)" transition="out">
                                      <p:cBhvr additive="repl">
                                        <p:cTn id="126" dur="500"/>
                                        <p:tgtEl>
                                          <p:spTgt spid="33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xit" presetID="1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slide(fromRight)" transition="out">
                                      <p:cBhvr additive="repl">
                                        <p:cTn id="129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500"/>
                            </p:stCondLst>
                            <p:childTnLst>
                              <p:par>
                                <p:cTn id="13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3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6" dur="500"/>
                                        <p:tgtEl>
                                          <p:spTgt spid="33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33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" dur="500"/>
                                        <p:tgtEl>
                                          <p:spTgt spid="33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xit" presetID="1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slide(fromLeft)" transition="out">
                                      <p:cBhvr additive="repl">
                                        <p:cTn id="162" dur="500"/>
                                        <p:tgtEl>
                                          <p:spTgt spid="33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nodeType="withEffect" fill="hold" presetClass="exit" presetID="1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slide(fromRight)" transition="out">
                                      <p:cBhvr additive="repl">
                                        <p:cTn id="16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6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9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2" dur="500"/>
                                        <p:tgtEl>
                                          <p:spTgt spid="33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500"/>
                                        <p:tgtEl>
                                          <p:spTgt spid="330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500"/>
                            </p:stCondLst>
                            <p:childTnLst>
                              <p:par>
                                <p:cTn id="1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7" dur="500"/>
                                        <p:tgtEl>
                                          <p:spTgt spid="330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500"/>
                            </p:stCondLst>
                            <p:childTnLst>
                              <p:par>
                                <p:cTn id="1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xit" presetID="1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slide(fromLeft)" transition="out">
                                      <p:cBhvr additive="repl">
                                        <p:cTn id="198" dur="500"/>
                                        <p:tgtEl>
                                          <p:spTgt spid="330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" nodeType="withEffect" fill="hold" presetClass="exit" presetID="1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slide(fromRight)" transition="out">
                                      <p:cBhvr additive="repl">
                                        <p:cTn id="201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5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8" dur="500"/>
                                        <p:tgtEl>
                                          <p:spTgt spid="330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1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6840" y="217440"/>
            <a:ext cx="7900920" cy="7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1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72314"/>
                </a:solidFill>
                <a:latin typeface="Corbel"/>
              </a:rPr>
              <a:t>АЛГОРИТМ РЕШЕНИЯ ДЛЯ СЛУЧАЯ </a:t>
            </a:r>
            <a:br>
              <a:rPr sz="2800"/>
            </a:b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47" name="Содержимое 6" descr=""/>
          <p:cNvPicPr/>
          <p:nvPr/>
        </p:nvPicPr>
        <p:blipFill>
          <a:blip r:embed="rId1"/>
          <a:stretch/>
        </p:blipFill>
        <p:spPr>
          <a:xfrm>
            <a:off x="79200" y="1316160"/>
            <a:ext cx="3956400" cy="47498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48" name="Object 2"/>
              <p:cNvSpPr txBox="1"/>
              <p:nvPr/>
            </p:nvSpPr>
            <p:spPr>
              <a:xfrm>
                <a:off x="2786040" y="571680"/>
                <a:ext cx="2581200" cy="7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&lt;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(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9" name="Управляющая кнопка: домой 16"/>
          <p:cNvSpPr/>
          <p:nvPr/>
        </p:nvSpPr>
        <p:spPr>
          <a:xfrm>
            <a:off x="8143920" y="5857920"/>
            <a:ext cx="1000080" cy="1000080"/>
          </a:xfrm>
          <a:custGeom>
            <a:avLst/>
            <a:gdLst>
              <a:gd name="textAreaLeft" fmla="*/ 64800 w 1000080"/>
              <a:gd name="textAreaRight" fmla="*/ 935280 w 1000080"/>
              <a:gd name="textAreaTop" fmla="*/ 64800 h 1000080"/>
              <a:gd name="textAreaBottom" fmla="*/ 935280 h 1000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3857760" y="1356840"/>
            <a:ext cx="528624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Случай </a:t>
            </a:r>
            <a:r>
              <a:rPr b="1" i="1" lang="en-US" sz="1800" spc="-1" strike="noStrike">
                <a:solidFill>
                  <a:srgbClr val="000000"/>
                </a:solidFill>
                <a:latin typeface="Gill Sans MT"/>
              </a:rPr>
              <a:t>m=3k+1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– повторяется предыдущий алгоритм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4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Случай</a:t>
            </a: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Gill Sans MT"/>
              </a:rPr>
              <a:t>m=3k+2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4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8  -фальшивая, тяжёлая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4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4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4280">
              <a:lnSpc>
                <a:spcPct val="100000"/>
              </a:lnSpc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M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(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1,0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),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M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1,2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4280"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42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4280">
              <a:lnSpc>
                <a:spcPct val="100000"/>
              </a:lnSpc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M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(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0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),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M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2,2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4280"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4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4280">
              <a:lnSpc>
                <a:spcPct val="100000"/>
              </a:lnSpc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M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(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3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0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),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M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3,2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4280"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4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4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1" name="Объект 18"/>
              <p:cNvSpPr txBox="1"/>
              <p:nvPr/>
            </p:nvSpPr>
            <p:spPr>
              <a:xfrm>
                <a:off x="4000680" y="2500200"/>
                <a:ext cx="628560" cy="5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2" name="Object 14"/>
              <p:cNvSpPr txBox="1"/>
              <p:nvPr/>
            </p:nvSpPr>
            <p:spPr>
              <a:xfrm>
                <a:off x="4071960" y="3286080"/>
                <a:ext cx="81756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3" name="Object 15"/>
              <p:cNvSpPr txBox="1"/>
              <p:nvPr/>
            </p:nvSpPr>
            <p:spPr>
              <a:xfrm>
                <a:off x="4143240" y="4143240"/>
                <a:ext cx="785880" cy="55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4" name="Object 16"/>
              <p:cNvSpPr txBox="1"/>
              <p:nvPr/>
            </p:nvSpPr>
            <p:spPr>
              <a:xfrm>
                <a:off x="4500720" y="2500200"/>
                <a:ext cx="42840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5" name="Object 17"/>
              <p:cNvSpPr txBox="1"/>
              <p:nvPr/>
            </p:nvSpPr>
            <p:spPr>
              <a:xfrm>
                <a:off x="4786200" y="2500200"/>
                <a:ext cx="42876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6" name="Object 18"/>
              <p:cNvSpPr txBox="1"/>
              <p:nvPr/>
            </p:nvSpPr>
            <p:spPr>
              <a:xfrm>
                <a:off x="5643720" y="3786120"/>
                <a:ext cx="2104920" cy="46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↔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3,4,7</m:t>
                        </m:r>
                      </m:e>
                    </m:d>
                    <m:r>
                      <m:t xml:space="preserve">,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2,6,8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7" name="Object 19"/>
              <p:cNvSpPr txBox="1"/>
              <p:nvPr/>
            </p:nvSpPr>
            <p:spPr>
              <a:xfrm>
                <a:off x="5572080" y="2928960"/>
                <a:ext cx="2077920" cy="46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↔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1,5,7</m:t>
                        </m:r>
                      </m:e>
                    </m:d>
                    <m:r>
                      <m:t xml:space="preserve">,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3,4,8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8" name="Object 20"/>
              <p:cNvSpPr txBox="1"/>
              <p:nvPr/>
            </p:nvSpPr>
            <p:spPr>
              <a:xfrm>
                <a:off x="5643720" y="4572000"/>
                <a:ext cx="1128600" cy="46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↔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8</m:t>
                        </m:r>
                      </m:e>
                    </m:d>
                    <m:r>
                      <m:t xml:space="preserve">,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9" name="Object 22"/>
              <p:cNvSpPr txBox="1"/>
              <p:nvPr/>
            </p:nvSpPr>
            <p:spPr>
              <a:xfrm>
                <a:off x="4113360" y="4991040"/>
                <a:ext cx="815760" cy="59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0" name="Object 23"/>
              <p:cNvSpPr txBox="1"/>
              <p:nvPr/>
            </p:nvSpPr>
            <p:spPr>
              <a:xfrm>
                <a:off x="5072040" y="2500200"/>
                <a:ext cx="44928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p:transition>
    <p:wheel spokes="1"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xit" presetID="1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slide(fromLeft)" transition="out">
                                      <p:cBhvr additive="repl">
                                        <p:cTn id="232" dur="500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500"/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500"/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500"/>
                                        <p:tgtEl>
                                          <p:spTgt spid="3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500"/>
                                        <p:tgtEl>
                                          <p:spTgt spid="3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" dur="500"/>
                                        <p:tgtEl>
                                          <p:spTgt spid="3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3" dur="500"/>
                                        <p:tgtEl>
                                          <p:spTgt spid="3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500"/>
                            </p:stCondLst>
                            <p:childTnLst>
                              <p:par>
                                <p:cTn id="2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1000"/>
                            </p:stCondLst>
                            <p:childTnLst>
                              <p:par>
                                <p:cTn id="2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xit" presetID="1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slide(fromLeft)" transition="out">
                                      <p:cBhvr additive="repl">
                                        <p:cTn id="285" dur="500"/>
                                        <p:tgtEl>
                                          <p:spTgt spid="3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xit" presetID="1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slide(fromRight)" transition="out">
                                      <p:cBhvr additive="repl">
                                        <p:cTn id="288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500"/>
                            </p:stCondLst>
                            <p:childTnLst>
                              <p:par>
                                <p:cTn id="29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2" dur="500"/>
                                        <p:tgtEl>
                                          <p:spTgt spid="3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5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1000"/>
                            </p:stCondLst>
                            <p:childTnLst>
                              <p:par>
                                <p:cTn id="298" nodeType="afterEffect" fill="hold" presetClass="exit" presetID="1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slide(fromLeft)" transition="out">
                                      <p:cBhvr additive="repl">
                                        <p:cTn id="299" dur="500"/>
                                        <p:tgtEl>
                                          <p:spTgt spid="3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" nodeType="withEffect" fill="hold" presetClass="exit" presetID="1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slide(fromRight)" transition="out">
                                      <p:cBhvr additive="repl">
                                        <p:cTn id="302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500"/>
                            </p:stCondLst>
                            <p:childTnLst>
                              <p:par>
                                <p:cTn id="30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6" dur="500"/>
                                        <p:tgtEl>
                                          <p:spTgt spid="3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9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" dur="500"/>
                                        <p:tgtEl>
                                          <p:spTgt spid="3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2000"/>
                            </p:stCondLst>
                            <p:childTnLst>
                              <p:par>
                                <p:cTn id="3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0" dur="500"/>
                                        <p:tgtEl>
                                          <p:spTgt spid="3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2500"/>
                            </p:stCondLst>
                            <p:childTnLst>
                              <p:par>
                                <p:cTn id="3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31" dur="500"/>
                                        <p:tgtEl>
                                          <p:spTgt spid="3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3" nodeType="withEffect" fill="hold" presetClass="exit" presetID="1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slide(fromRight)" transition="out">
                                      <p:cBhvr additive="repl">
                                        <p:cTn id="334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0"/>
                            </p:stCondLst>
                            <p:childTnLst>
                              <p:par>
                                <p:cTn id="33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38" dur="500"/>
                                        <p:tgtEl>
                                          <p:spTgt spid="3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41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1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6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r>
              <a:rPr b="0" lang="ru-RU" sz="2900" spc="-1" strike="noStrike">
                <a:solidFill>
                  <a:srgbClr val="572314"/>
                </a:solidFill>
                <a:latin typeface="Corbel"/>
              </a:rPr>
              <a:t>Обоснование оптимальности метода Дайсона</a:t>
            </a:r>
            <a:br>
              <a:rPr sz="2900"/>
            </a:br>
            <a:endParaRPr b="0" lang="en-US" sz="2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1428480" y="1213920"/>
            <a:ext cx="7715160" cy="56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2m – </a:t>
            </a:r>
            <a:r>
              <a:rPr b="0" i="1" lang="ru-RU" sz="2400" spc="-1" strike="noStrike">
                <a:solidFill>
                  <a:srgbClr val="000000"/>
                </a:solidFill>
                <a:latin typeface="Corbel"/>
              </a:rPr>
              <a:t>число бумажек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rbel"/>
              </a:rPr>
              <a:t>         </a:t>
            </a:r>
            <a:r>
              <a:rPr b="0" i="1" lang="ru-RU" sz="2400" spc="-1" strike="noStrike">
                <a:solidFill>
                  <a:srgbClr val="000000"/>
                </a:solidFill>
                <a:latin typeface="Corbel"/>
              </a:rPr>
              <a:t>- число бумажек, оставшихся под подозрением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rbel"/>
              </a:rPr>
              <a:t>          </a:t>
            </a:r>
            <a:r>
              <a:rPr b="0" i="1" lang="ru-RU" sz="2400" spc="-1" strike="noStrike">
                <a:solidFill>
                  <a:srgbClr val="000000"/>
                </a:solidFill>
                <a:latin typeface="Corbel"/>
              </a:rPr>
              <a:t>- число бумажек, оставшихся под подозрением после 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n </a:t>
            </a:r>
            <a:r>
              <a:rPr b="0" i="1" lang="ru-RU" sz="2400" spc="-1" strike="noStrike">
                <a:solidFill>
                  <a:srgbClr val="000000"/>
                </a:solidFill>
                <a:latin typeface="Corbel"/>
              </a:rPr>
              <a:t> взвешиваний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rbel"/>
              </a:rPr>
              <a:t>                           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p - </a:t>
            </a:r>
            <a:r>
              <a:rPr b="0" i="1" lang="ru-RU" sz="2400" spc="-1" strike="noStrike">
                <a:solidFill>
                  <a:srgbClr val="000000"/>
                </a:solidFill>
                <a:latin typeface="Corbel"/>
              </a:rPr>
              <a:t> кол-во бумажек с цифрами </a:t>
            </a: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0</a:t>
            </a:r>
            <a:r>
              <a:rPr b="0" i="1" lang="ru-RU" sz="2400" spc="-1" strike="noStrike">
                <a:solidFill>
                  <a:srgbClr val="000000"/>
                </a:solidFill>
                <a:latin typeface="Corbel"/>
              </a:rPr>
              <a:t> или </a:t>
            </a: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rbel"/>
              </a:rPr>
              <a:t>                         </a:t>
            </a:r>
            <a:r>
              <a:rPr b="0" i="1" lang="ru-RU" sz="2400" spc="-1" strike="noStrike">
                <a:solidFill>
                  <a:srgbClr val="000000"/>
                </a:solidFill>
                <a:latin typeface="Corbel"/>
              </a:rPr>
              <a:t>и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3" name="Объект 8"/>
              <p:cNvSpPr txBox="1"/>
              <p:nvPr/>
            </p:nvSpPr>
            <p:spPr>
              <a:xfrm>
                <a:off x="1865160" y="1563840"/>
                <a:ext cx="482760" cy="78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r>
                          <m:t xml:space="preserve">m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4" name="Объект 9"/>
              <p:cNvSpPr txBox="1"/>
              <p:nvPr/>
            </p:nvSpPr>
            <p:spPr>
              <a:xfrm>
                <a:off x="2071800" y="2428920"/>
                <a:ext cx="482400" cy="87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r>
                          <m:t xml:space="preserve">m</m:t>
                        </m:r>
                      </m:num>
                      <m:den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5" name="Объект 10"/>
              <p:cNvSpPr txBox="1"/>
              <p:nvPr/>
            </p:nvSpPr>
            <p:spPr>
              <a:xfrm>
                <a:off x="1785960" y="4286160"/>
                <a:ext cx="144288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≤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n-1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6" name="Объект 11"/>
              <p:cNvSpPr txBox="1"/>
              <p:nvPr/>
            </p:nvSpPr>
            <p:spPr>
              <a:xfrm>
                <a:off x="3714840" y="4286160"/>
                <a:ext cx="185724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m-2p</m:t>
                    </m:r>
                    <m:r>
                      <m:t xml:space="preserve">≤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n-1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-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7" name="Объект 12"/>
              <p:cNvSpPr txBox="1"/>
              <p:nvPr/>
            </p:nvSpPr>
            <p:spPr>
              <a:xfrm>
                <a:off x="1785960" y="4786200"/>
                <a:ext cx="171432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p</m:t>
                    </m:r>
                    <m:r>
                      <m:t xml:space="preserve">≤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2*3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n-1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-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8" name="Объект 13"/>
              <p:cNvSpPr txBox="1"/>
              <p:nvPr/>
            </p:nvSpPr>
            <p:spPr>
              <a:xfrm>
                <a:off x="4000680" y="3429000"/>
                <a:ext cx="1500120" cy="4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2m=3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-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9" name="Объект 14"/>
              <p:cNvSpPr txBox="1"/>
              <p:nvPr/>
            </p:nvSpPr>
            <p:spPr>
              <a:xfrm>
                <a:off x="1857240" y="5286240"/>
                <a:ext cx="669132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m=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2m-2p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+2p</m:t>
                    </m:r>
                    <m:r>
                      <m:t xml:space="preserve">≤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n-1</m:t>
                        </m:r>
                      </m:sup>
                    </m:sSup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-1+2*3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n-1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-2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 3*3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n-1</m:t>
                        </m:r>
                      </m:sup>
                    </m:sSup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-3=3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-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0" name="Объект 15"/>
              <p:cNvSpPr txBox="1"/>
              <p:nvPr/>
            </p:nvSpPr>
            <p:spPr>
              <a:xfrm>
                <a:off x="1857240" y="5786280"/>
                <a:ext cx="155412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m</m:t>
                    </m:r>
                    <m:r>
                      <m:t xml:space="preserve">≤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-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71" name="Управляющая кнопка: домой 16"/>
          <p:cNvSpPr/>
          <p:nvPr/>
        </p:nvSpPr>
        <p:spPr>
          <a:xfrm>
            <a:off x="0" y="5857920"/>
            <a:ext cx="1000080" cy="1000080"/>
          </a:xfrm>
          <a:custGeom>
            <a:avLst/>
            <a:gdLst>
              <a:gd name="textAreaLeft" fmla="*/ 64800 w 1000080"/>
              <a:gd name="textAreaRight" fmla="*/ 935280 w 1000080"/>
              <a:gd name="textAreaTop" fmla="*/ 64800 h 1000080"/>
              <a:gd name="textAreaBottom" fmla="*/ 935280 h 1000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2" name="Объект 17"/>
              <p:cNvSpPr txBox="1"/>
              <p:nvPr/>
            </p:nvSpPr>
            <p:spPr>
              <a:xfrm>
                <a:off x="2071800" y="3376440"/>
                <a:ext cx="1714320" cy="48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m</m:t>
                    </m:r>
                    <m:r>
                      <m:t xml:space="preserve">≤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=&gt;</m:t>
                    </m:r>
                  </m:oMath>
                </a14:m>
              </a:p>
            </p:txBody>
          </p:sp>
        </mc:Choice>
        <mc:Fallback/>
      </mc:AlternateContent>
    </p:spTree>
  </p:cSld>
  <p:transition>
    <p:circle/>
  </p:transition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500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8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500"/>
                            </p:stCondLst>
                            <p:childTnLst>
                              <p:par>
                                <p:cTn id="3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2" dur="500"/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7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500"/>
                            </p:stCondLst>
                            <p:childTnLst>
                              <p:par>
                                <p:cTn id="3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1" dur="1000"/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6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3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9" dur="500"/>
                                        <p:tgtEl>
                                          <p:spTgt spid="3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4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7" dur="500"/>
                                        <p:tgtEl>
                                          <p:spTgt spid="3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"/>
                            </p:stCondLst>
                            <p:childTnLst>
                              <p:par>
                                <p:cTn id="3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1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6" dur="500"/>
                                        <p:tgtEl>
                                          <p:spTgt spid="3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9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4" dur="500"/>
                                        <p:tgtEl>
                                          <p:spTgt spid="3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7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2" dur="500"/>
                                        <p:tgtEl>
                                          <p:spTgt spid="3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5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6840" y="217440"/>
            <a:ext cx="432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1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572314"/>
                </a:solidFill>
                <a:latin typeface="Corbel"/>
              </a:rPr>
              <a:t>РЕШЕНИЕ ЗАДАЧИ</a:t>
            </a:r>
            <a:endParaRPr b="0" lang="en-US" sz="2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357120" y="1142640"/>
            <a:ext cx="8400960" cy="509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   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orbel"/>
              </a:rPr>
              <a:t>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orbel"/>
              </a:rPr>
              <a:t>Условие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: Дано </a:t>
            </a:r>
            <a:r>
              <a:rPr b="0" i="1" lang="en-US" sz="1800" spc="-1" strike="noStrike">
                <a:solidFill>
                  <a:srgbClr val="000000"/>
                </a:solidFill>
                <a:latin typeface="Gill Sans MT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монет и известно, что фальшивых среди них – не больше одной. За какое число взвешиваний можно найти фальшивую монету и определить её тип или убедиться, что фальшивой монеты нет?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4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    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orbel"/>
              </a:rPr>
              <a:t>Решение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. Применение метода Дайсона позволяет утверждать, что если ,                          ,то </a:t>
            </a:r>
            <a:r>
              <a:rPr b="0" i="1" lang="en-US" sz="1800" spc="-1" strike="noStrike">
                <a:solidFill>
                  <a:srgbClr val="000000"/>
                </a:solidFill>
                <a:latin typeface="Gill Sans MT"/>
              </a:rPr>
              <a:t>n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взвешиваний будет достаточно для определения фальшивой монеты и её типа. 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4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Действительно, т.к. фальшивой монеты не больше одной, то рассмотрим два случая: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4280">
              <a:buClr>
                <a:srgbClr val="3891a7"/>
              </a:buClr>
              <a:buSzPct val="80000"/>
              <a:buFont typeface="Corbe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Одна монета фальшивая.  Это  ‑ задача, рассмотренная в первом параграфе работы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4280">
              <a:buClr>
                <a:srgbClr val="3891a7"/>
              </a:buClr>
              <a:buSzPct val="80000"/>
              <a:buFont typeface="Corbe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Нет фальшивой монеты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4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      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При реализации метода Дайсона при каждом взвешивании в маркер будет добавляться 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. Значит, через </a:t>
            </a:r>
            <a:r>
              <a:rPr b="0" i="1" lang="en-US" sz="1800" spc="-1" strike="noStrike">
                <a:solidFill>
                  <a:srgbClr val="000000"/>
                </a:solidFill>
                <a:latin typeface="Gill Sans MT"/>
              </a:rPr>
              <a:t>n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взвешиваний мы получим маркер 11….1, который не соответствует ни одной из взвешиваемых монет. Следовательно, фальшивой монеты нет.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4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      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Значит, при тех же  </a:t>
            </a:r>
            <a:r>
              <a:rPr b="0" i="1" lang="en-US" sz="1800" spc="-1" strike="noStrike">
                <a:solidFill>
                  <a:srgbClr val="000000"/>
                </a:solidFill>
                <a:latin typeface="Gill Sans MT"/>
              </a:rPr>
              <a:t>n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взвешиваниях будет выявлено, что все монеты настоящие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4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457200" y="6072120"/>
            <a:ext cx="114480" cy="5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7200"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6" name="Управляющая кнопка: домой 6"/>
          <p:cNvSpPr/>
          <p:nvPr/>
        </p:nvSpPr>
        <p:spPr>
          <a:xfrm>
            <a:off x="0" y="5857920"/>
            <a:ext cx="1000080" cy="1000080"/>
          </a:xfrm>
          <a:custGeom>
            <a:avLst/>
            <a:gdLst>
              <a:gd name="textAreaLeft" fmla="*/ 64800 w 1000080"/>
              <a:gd name="textAreaRight" fmla="*/ 935280 w 1000080"/>
              <a:gd name="textAreaTop" fmla="*/ 64800 h 1000080"/>
              <a:gd name="textAreaBottom" fmla="*/ 935280 h 1000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7" name="Управляющая кнопка: настраиваемая 7">
            <a:hlinkClick r:id="" action="ppaction://hlinkshowjump?jump=lastslide"/>
          </p:cNvPr>
          <p:cNvSpPr/>
          <p:nvPr/>
        </p:nvSpPr>
        <p:spPr>
          <a:xfrm>
            <a:off x="8215200" y="5857920"/>
            <a:ext cx="928800" cy="1000080"/>
          </a:xfrm>
          <a:custGeom>
            <a:avLst/>
            <a:gdLst>
              <a:gd name="textAreaLeft" fmla="*/ 60120 w 928800"/>
              <a:gd name="textAreaRight" fmla="*/ 868680 w 928800"/>
              <a:gd name="textAreaTop" fmla="*/ 60120 h 1000080"/>
              <a:gd name="textAreaBottom" fmla="*/ 939960 h 1000080"/>
            </a:gdLst>
            <a:ahLst/>
            <a:rect l="textAreaLeft" t="textAreaTop" r="textAreaRight" b="textAreaBottom"/>
            <a:pathLst>
              <a:path w="21600" h="23257">
                <a:moveTo>
                  <a:pt x="0" y="0"/>
                </a:moveTo>
                <a:lnTo>
                  <a:pt x="21600" y="0"/>
                </a:lnTo>
                <a:lnTo>
                  <a:pt x="21600" y="23257"/>
                </a:lnTo>
                <a:lnTo>
                  <a:pt x="0" y="23257"/>
                </a:lnTo>
                <a:close/>
              </a:path>
              <a:path fill="lightenLess" w="21600" h="2325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257">
                <a:moveTo>
                  <a:pt x="21600" y="0"/>
                </a:moveTo>
                <a:lnTo>
                  <a:pt x="21600" y="23257"/>
                </a:lnTo>
                <a:lnTo>
                  <a:pt x="20200" y="21857"/>
                </a:lnTo>
                <a:lnTo>
                  <a:pt x="20200" y="1400"/>
                </a:lnTo>
                <a:close/>
              </a:path>
              <a:path fill="darkenLess" w="21600" h="23257">
                <a:moveTo>
                  <a:pt x="21600" y="23257"/>
                </a:moveTo>
                <a:lnTo>
                  <a:pt x="0" y="23257"/>
                </a:lnTo>
                <a:lnTo>
                  <a:pt x="1400" y="21857"/>
                </a:lnTo>
                <a:lnTo>
                  <a:pt x="20200" y="21857"/>
                </a:lnTo>
                <a:close/>
              </a:path>
              <a:path fill="lighten" w="21600" h="23257">
                <a:moveTo>
                  <a:pt x="0" y="23257"/>
                </a:moveTo>
                <a:lnTo>
                  <a:pt x="0" y="0"/>
                </a:lnTo>
                <a:lnTo>
                  <a:pt x="1400" y="1400"/>
                </a:lnTo>
                <a:lnTo>
                  <a:pt x="1400" y="21857"/>
                </a:lnTo>
                <a:close/>
              </a:path>
            </a:pathLst>
          </a:cu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8" name="Object 3"/>
              <p:cNvSpPr txBox="1"/>
              <p:nvPr/>
            </p:nvSpPr>
            <p:spPr>
              <a:xfrm>
                <a:off x="8062920" y="1928880"/>
                <a:ext cx="108108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≤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(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-3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d"/>
  </p:transition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" dur="1000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9" dur="2000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2" dur="2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2000"/>
                            </p:stCondLst>
                            <p:childTnLst>
                              <p:par>
                                <p:cTn id="444" nodeType="afterEffect" fill="hold" presetClass="entr" presetID="2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6" dur="500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1" dur="500"/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6" dur="500"/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1" dur="500"/>
                                        <p:tgtEl>
                                          <p:spTgt spid="3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500"/>
                            </p:stCondLst>
                            <p:childTnLst>
                              <p:par>
                                <p:cTn id="463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5" dur="500"/>
                                        <p:tgtEl>
                                          <p:spTgt spid="3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6T13:44:19Z</dcterms:created>
  <dc:creator>Ксен</dc:creator>
  <dc:description/>
  <dc:language>en-US</dc:language>
  <cp:lastModifiedBy>Olga</cp:lastModifiedBy>
  <dcterms:modified xsi:type="dcterms:W3CDTF">2012-10-01T06:08:58Z</dcterms:modified>
  <cp:revision>76</cp:revision>
  <dc:subject/>
  <dc:title>Реферативно-исследовательская работа по математике  Метод Дайсона выявления фальшивой монеты</dc:title>
</cp:coreProperties>
</file>